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BD56-E9F2-4765-B2E3-5F33E94B3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2A9E-6AB4-404F-B0E9-C7F3A5479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7F41-8F6E-4B43-8EEF-89777ADE3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3EE6-51F0-473A-B47B-D35B38892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99E0-5167-4686-B5B1-DFDC72D56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0CFB-1253-4DBA-8D0E-38E94DDBD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57A8-E251-4E66-8C65-6031FD563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AB84-3E0D-4B78-A957-CACD748A4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D791-FA65-41A8-9B8A-9890575A1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237A-7281-4EEB-804B-EA6247808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70F3-5398-4396-821D-77C987F4E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B438-8184-4705-BF0F-08E1CAEC2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529C-2658-4530-87AB-3031EF71C4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4EE-9F07-4A23-A3B2-CF61E38BBB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400" y="1980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uccess criteria the students co-construc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74F-53E8-4A80-85B0-7ED9FA2746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 once they have completed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760-B325-4A35-B8B3-336DB58EB0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3733920" y="3809880"/>
            <a:ext cx="4724280" cy="2133720"/>
          </a:xfrm>
          <a:prstGeom prst="cloudCallout">
            <a:avLst>
              <a:gd name="adj1" fmla="val -88912"/>
              <a:gd name="adj2" fmla="val -38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change about your success criteria now that you have solved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the students alter their success criteria they co-constructed before they did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413A-0FDE-425B-A7A6-B18DC356B7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7657-E780-442F-A611-910DB56865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5ca9"/>
                </a:solidFill>
                <a:latin typeface="Arial"/>
              </a:rPr>
              <a:t>Video…the math!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6221-31B2-48C1-89BA-9D2D455736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040" y="25142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5C8-AA29-4E57-893D-A73B1E6AFD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D20A-EF18-4967-BAB0-A19B0336CA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 of feedback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 one student sample and team up with another p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your samples and the feedback you would prov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8A62-6DB2-4738-A870-88AD9BF4D9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4920" y="22856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2EBD-E5B2-4FA6-BA3F-F3D8440D25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2640" y="18284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BFC4-BFEB-444D-B1FD-808E7CE0C8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AutoShape 7"/>
          <p:cNvSpPr/>
          <p:nvPr/>
        </p:nvSpPr>
        <p:spPr>
          <a:xfrm>
            <a:off x="3505320" y="3429000"/>
            <a:ext cx="4495680" cy="2209680"/>
          </a:xfrm>
          <a:prstGeom prst="cloudCallout">
            <a:avLst>
              <a:gd name="adj1" fmla="val -87643"/>
              <a:gd name="adj2" fmla="val -28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 the problem in at least two ways, noting possible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your responses with a partner and provide feedback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C584-482D-48D3-B7FF-81B7665480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797-6D1F-41C2-ACBD-ED848065C3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8288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 fill out the exit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5D7-44A9-48D0-8C28-C51F8A6E4F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the statements in a way that make sens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reas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B140-7456-4C5F-8DBF-124168D964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sorting template altered the organization of your statements in any way? Expla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AB46-A580-4506-8246-E35EF34EF3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okie Recip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48EF-C3DB-49E8-A374-96CAAE3790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32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(quick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EC84-CCD1-489B-A8E7-1657FF6F01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Cooki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13C1-C127-4953-8369-A68235A52E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B7C2-3A31-4A94-A72E-13E0E4AA18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7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students identify as evidence of a good answ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68C7-393B-4D44-8947-18A67E7B17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8-19T13:50:37Z</dcterms:modified>
  <cp:revision>99</cp:revision>
  <dc:subject/>
  <dc:title>&lt;Title&gt;</dc:title>
</cp:coreProperties>
</file>